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98D-89F0-446E-AE37-3671B779C23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設計不只是設計師的事情，一般人其實都在從事設計的事情，設計也不是只有倚靠某方面天份，它其實是可以有系統的學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A474-266B-4AF6-BB89-851F4C49F1A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一切物種原始的學說都不考慮，純粹考慮生物本身對於存活所需要的一切渴望，包括他應該能離開危險，風大的時候可以把自己釘在沙灘上等等能力，這位生物的藝術家花了將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的時間試著挑戰人性的制度、社會的制度，回歸二進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單純角度來思考事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1FC-85C7-498E-ABA9-72175C8A56A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D50-B86A-4F1B-9A7D-37872C5A4D4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技術、經濟、生活型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2E9-77DF-45C7-982E-0E8A16636A1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以前從未想過去觀看自然界生存的法則，更沒想到從那裡去學習來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­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變我們的生活，現在反而覺得有很多很多我們可以試著去改善地更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­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使我們的生活環境可以演變得更乾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CC1D-256F-4E79-93C5-13C66975281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EAA-0936-47DD-A196-F664DAC7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610-23B7-4298-8CF7-7174A01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E39-0DAF-4BB3-B54E-72295AC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D59-7D42-4297-BDCA-F97E74FD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DCE7-9EAD-410B-98BF-EF434F44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B55-A2E3-4FF0-BB5D-AEACA121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BC15-724F-4D8D-955C-DD599111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E1B5-986C-4356-B11C-9F12A63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6F6-D8C5-40BC-B17D-CE5FC137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98A9-5A42-47E2-AEB5-A4957EB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91AA-FA73-4406-A49D-3A0421D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DE8-94B4-42EF-BAD4-2F91CA2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C85B-43B4-49C9-A6C2-000902B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31A9-5458-4F43-A3E8-03E5FB4A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90B-6924-441D-9F21-2588F5D3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7BE-3713-442D-99C8-1564B0B8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7400-AAD6-460C-A939-A8458511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D035-F9F3-41A2-88D3-B5D02806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A414-0217-4147-A1BD-00A0C61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BB94-F448-4187-87BF-61AFAC9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EB2A-BF96-41A6-8E4B-63121DB9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7492-C4C6-47A4-9D9F-5F070E40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6B8-0C63-4982-B5AA-39EBB111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2F16-3729-4536-A482-FC4D767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9937-FD57-4E01-967C-FB167CF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766A-8C57-4B24-9710-4446CF3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EF2F-8A7F-461B-A835-BDFB61C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CD52-F4D7-4FCF-A556-1371785B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FF1D-7B4E-448A-8454-85E5038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0F59-86D3-43A5-BE25-0C05CB17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9AE-BEDA-4623-9E3D-414155A6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BD9-2141-452E-AD82-0E9673B2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340-7655-4B42-B84C-FBD25EF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DCE-FE3C-4FA6-A329-ACF0B59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447-EECF-4357-9088-21311117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33D-C310-4C9A-9D0D-99FA9959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BDC-516F-4E06-9A62-99B9844F308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87F-A7AB-4B1F-AF5A-528480D4939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線接點 6"/>
          <p:cNvSpPr/>
          <p:nvPr/>
        </p:nvSpPr>
        <p:spPr>
          <a:xfrm flipH="1" flipV="1">
            <a:off x="3142800" y="1213920"/>
            <a:ext cx="6000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6D02-89C9-4479-964F-46968167EF5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800" y="220500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姚仁祿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『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什麼是設計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: 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計邊境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』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心得報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文大資管數位學習科技組學分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蔡淑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99/10/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3500280" y="1785960"/>
            <a:ext cx="2629080" cy="26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9e8b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3662280" y="4714920"/>
            <a:ext cx="240984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latin typeface="微軟正黑體"/>
              </a:rPr>
              <a:t>謝謝指教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微軟正黑體"/>
              <a:ea typeface="微軟正黑體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2734920" y="557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 Unicode MS"/>
              </a:rPr>
              <a:t>The Shortest Distance to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內容綱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9162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介紹建構二十一世紀生活的設計基礎，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包括近代科學、科技、人類行為與市場行銷的發展現況與前瞻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並以食、衣、住、行、網路與品牌的個案研究為基礎，探討二十一世紀待開發的設計領域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習是透過經驗，改變能力或行為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而目前的教育制度，有嚴重的價值觀偏差，太重 視左腦，忽視右腦，以至於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創意與直覺，長期被人們忽略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學校的教育體制，多是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符合工業革命制度的設計與需求，很容易抹殺了人們的原創性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計的期望和現況，要如何取得平衡？設法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靠近期望的能力等於「設計」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而無法靠近期望，就會產生焦慮，創意是可以有系統的學習，可以向周遭的大自然學習，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可以從家庭學習，更可從同儕的競爭中學習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自然提供了很多設計的霝感，只是被人們忽略了，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身邊週遭有許多細節，都可以是設計巧思的來源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資料庫圖表 3" descr=""/>
          <p:cNvPicPr/>
          <p:nvPr/>
        </p:nvPicPr>
        <p:blipFill>
          <a:blip r:embed="rId1"/>
          <a:stretch/>
        </p:blipFill>
        <p:spPr>
          <a:xfrm>
            <a:off x="822240" y="1036800"/>
            <a:ext cx="7645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468360" y="234936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53735"/>
                </a:solidFill>
                <a:latin typeface="微軟正黑體"/>
                <a:ea typeface="微軟正黑體"/>
              </a:rPr>
              <a:t>啟發與應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860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華康粗黑體"/>
              <a:ea typeface="華康粗黑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挑戰歸零，新創設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16240" t="22439" r="43012" b="45749"/>
          <a:stretch/>
        </p:blipFill>
        <p:spPr>
          <a:xfrm>
            <a:off x="1403280" y="1989000"/>
            <a:ext cx="6270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65167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學習是透過失敗的經驗，改變能力或行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2103" t="23954" r="38285" b="42719"/>
          <a:stretch/>
        </p:blipFill>
        <p:spPr>
          <a:xfrm>
            <a:off x="1187280" y="1989000"/>
            <a:ext cx="69631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計是讓現況靠近期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12103" t="23954" r="38879" b="42719"/>
          <a:stretch/>
        </p:blipFill>
        <p:spPr>
          <a:xfrm>
            <a:off x="1116000" y="2060640"/>
            <a:ext cx="746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應該學習的是方法和思考的能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12502" t="23488" r="38191" b="40367"/>
          <a:stretch/>
        </p:blipFill>
        <p:spPr>
          <a:xfrm>
            <a:off x="1403280" y="1989000"/>
            <a:ext cx="65534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15640" y="2755800"/>
            <a:ext cx="726444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設計的核心是要改變世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即使是你只是世界中的小小一份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5:38:30Z</dcterms:created>
  <dc:creator>n倪玉旻</dc:creator>
  <dc:description/>
  <dc:language>en-US</dc:language>
  <cp:lastModifiedBy>shtsai</cp:lastModifiedBy>
  <dcterms:modified xsi:type="dcterms:W3CDTF">2010-10-02T04:39:21Z</dcterms:modified>
  <cp:revision>172</cp:revision>
  <dc:subject/>
  <dc:title>投影片 1</dc:title>
</cp:coreProperties>
</file>